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7F8-3CD5-44CB-817A-307ABADE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5DB-EDAB-41B6-A2DD-C16AA2AE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77A-0BB9-4F11-81E7-A7FF91C16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42C-6000-49C1-9EBE-C05E48FE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49C-2699-42BA-A3E1-33FD2D7A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A39-BED4-441F-A402-AF854EA8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20FA-A485-43C9-BEB4-DCC19CAE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753-FDBD-4B54-BE4A-CF4DF58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A50-53D7-4076-85C5-C1C72754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10C3-23B6-4CFA-86D3-1493EC7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13D-E23F-4A27-A150-2DCFE3C7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1BD9-CB8F-4666-9CE2-F2F15B86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95C0-F4EB-40C7-B9F0-66E4471A7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3868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382920"/>
            <a:ext cx="68580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/Wie/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 geht’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________ bist d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419720"/>
            <a:ext cx="67057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l in the 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nja spiel______ Fuss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ör_____ du gern Musi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ch reit________ nicht g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683320"/>
            <a:ext cx="6858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as passt?  Either “ich, du, er, or si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 heisst M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 ist mein Fre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 klettere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345924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6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39924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6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592776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2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576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22860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3049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86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37944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0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04920"/>
            <a:ext cx="6705720" cy="28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s kann ich fragen und antwor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question or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l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.  Ich heisse Florian.  ___________________________________________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h heisse Mariska.  Wie geht’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.  Was machst du g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derseh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76320" y="319896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9718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30481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297180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934320"/>
            <a:ext cx="68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passt nicht?  (What doesn’t fit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, zwei, drei, sec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4419720"/>
            <a:ext cx="685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419256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426888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419256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191120"/>
            <a:ext cx="6858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i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rcle the picture which represents the activity mentioned in the dialog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484668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4920" y="492300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5227560"/>
            <a:ext cx="6705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re are the activities which are offered at “Schlaumeier Summer Camp”. Listen to the dialogue and circle the activities in which Lisa particip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68476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04920" y="576108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5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080040"/>
            <a:ext cx="68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rite the number or letter which you h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4008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8600" y="6477120"/>
            <a:ext cx="15228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6400800"/>
            <a:ext cx="6858000" cy="12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e any 3 of the following into Germ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3434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5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9230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6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60660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0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655308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2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76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152280"/>
            <a:ext cx="1522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" name=""/>
          <p:cNvSpPr/>
          <p:nvPr/>
        </p:nvSpPr>
        <p:spPr>
          <a:xfrm>
            <a:off x="5334120" y="15228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10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74520"/>
            <a:ext cx="6858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:  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68580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2280" y="762120"/>
            <a:ext cx="15264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2120"/>
            <a:ext cx="685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über kann ich schreib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bout the person listed using all of the information prov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Click to view full size image"/>
          <p:cNvPicPr/>
          <p:nvPr/>
        </p:nvPicPr>
        <p:blipFill>
          <a:blip r:embed="rId1"/>
          <a:srcRect l="50005" t="10670" r="6000" b="17334"/>
          <a:stretch/>
        </p:blipFill>
        <p:spPr>
          <a:xfrm>
            <a:off x="228600" y="1600200"/>
            <a:ext cx="167652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0" y="1752480"/>
            <a:ext cx="1600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ta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n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1600200"/>
            <a:ext cx="14475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/ 20 Punk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19:38:34Z</dcterms:created>
  <dc:creator>udsd</dc:creator>
  <dc:description/>
  <dc:language>en-US</dc:language>
  <cp:lastModifiedBy>udsd</cp:lastModifiedBy>
  <dcterms:modified xsi:type="dcterms:W3CDTF">2009-01-13T15:48:49Z</dcterms:modified>
  <cp:revision>15</cp:revision>
  <dc:subject/>
  <dc:title>Slide 1</dc:title>
</cp:coreProperties>
</file>